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421-AD2B-4B7A-9F83-E1E256CC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77A-68EF-4D81-95AE-7DF8C87F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831-76E1-4BC1-8A5A-14BB251E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AE4-C0B2-46EC-B5CB-8DE7937E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E868-170C-4994-8F18-FBE95DD3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8D0-F6BD-4706-9255-D4E1585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0D83-0F59-470B-BFFD-6F29DA8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9063-DE27-42C8-910F-2B32638D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93C8-83CA-4D0F-97D2-4D166D06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2B07-2937-4429-B1E1-E8E44B77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2911-33B3-4915-BD7B-ABB52827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794-7C4E-4F89-B9C0-4CE17827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A645-EA6A-4991-AD74-5FFA6B8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1278-CE69-434C-8D85-189361C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1E32-E1BC-452B-9102-E46742E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FB0B-BAB2-4605-93A2-84E34A2C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5068-0C8F-47E9-9F07-C693A94A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B42-F1D2-45AF-B716-B7F57B0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151-4189-43D0-94A2-5779C72C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16E-24B4-49BF-9E87-D89720BB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BBF-92AF-49BD-8DC0-62931EF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505-1C45-4EB9-AC51-9D4D1AE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A04-3882-4155-BB1E-DA2DC94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E92-35E0-4E06-860A-A5E2202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B66-1BAB-46C8-9300-9CF4226C670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A8BF-CB1F-4BA0-BD18-A8C69B3A407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PIRAMIDA HEXAGONAL</a:t>
            </a:r>
            <a:r>
              <a:rPr b="0" lang="ro-RO" sz="4400" spc="-1" strike="noStrike">
                <a:solidFill>
                  <a:srgbClr val="993366"/>
                </a:solidFill>
                <a:latin typeface="Arial Black"/>
              </a:rPr>
              <a:t>Ă 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REGULAT</a:t>
            </a:r>
            <a:r>
              <a:rPr b="0" lang="ro-RO" sz="4400" spc="-1" strike="noStrike">
                <a:solidFill>
                  <a:srgbClr val="993366"/>
                </a:solidFill>
                <a:latin typeface="Arial Black"/>
              </a:rPr>
              <a:t>Ă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6400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an Carolin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sanda Diana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b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 C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993366"/>
                </a:solidFill>
                <a:uFillTx/>
                <a:latin typeface="Arial Black"/>
              </a:rPr>
              <a:t>Def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:Piramida hexagonal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ă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 regulat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ă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 este piramida care are baza hexagon,iar 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î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nal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ţ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imea piramidei cade 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î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n centrul bazei.</a:t>
            </a:r>
            <a:endParaRPr b="0" lang="en-US" sz="2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743360" cy="5019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 Black"/>
              </a:rPr>
              <a:t>Elementele piramidei hexagonale regulate: </a:t>
            </a:r>
            <a:r>
              <a:rPr b="0" lang="en-US" sz="2000" spc="-1" strike="noStrike">
                <a:solidFill>
                  <a:srgbClr val="993366"/>
                </a:solidFill>
                <a:latin typeface="Arial Black"/>
              </a:rPr>
              <a:t> 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27280" y="691920"/>
            <a:ext cx="45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V- vârful piramide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ABCDEF- hexagon regulat (baza piramide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AB]  [BC] [CD] [DE]  [EF] [AF] (muchiile bazei)  (not. cu 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VA] [VB] [VC]  [VD]  [VE]  [VF] (muchiile laterale) (not.cu 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VO]-înaltimea piramidei (not.cu 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VM]-apotema piramidei (not.cu a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OM]-apotema bazei (not.ab) sau raza cercului înscris bazei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OF]-raza cercului circumscris bazei (not.cu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AD]- diagonala (mare) a bazei (not.cu 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CE] - diagonala (mica) a bazei (not.cu d’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788000" cy="57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 Black"/>
              </a:rPr>
              <a:t>Formulele piramidei hexagonale regulate:</a:t>
            </a:r>
            <a:endParaRPr b="0" lang="en-US" sz="28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9" name="" descr="Piramida hexagonala - formule utile"/>
          <p:cNvPicPr/>
          <p:nvPr/>
        </p:nvPicPr>
        <p:blipFill>
          <a:blip r:embed="rId1"/>
          <a:stretch/>
        </p:blipFill>
        <p:spPr>
          <a:xfrm>
            <a:off x="4462560" y="2133720"/>
            <a:ext cx="4681440" cy="2936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22892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66"/>
                </a:solidFill>
                <a:latin typeface="Blackadder ITC"/>
              </a:rPr>
              <a:t>Probleme</a:t>
            </a:r>
            <a:endParaRPr b="0" lang="en-US" sz="5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2129400"/>
            <a:ext cx="871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.Pentru un spectacol de circ se confecţionează un cort în formă de piramidă hexagonală regulată VABCDEF având muchiile laterale de 13 m şi latura bazei de 10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.Să se afle înălţimea şi apotema piramid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.Calculaţi volumul piramidei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. Se ştie că metrul pătrat de material folosit costă 13,50 lei şi se cumpără material cu o rezervă de 1 m2. Calculaţi costul materialului, ţinând cont că foaia de cort se foloseşte în strat dub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1:26:35Z</dcterms:created>
  <dc:creator>Carolline</dc:creator>
  <dc:description/>
  <dc:language>en-US</dc:language>
  <cp:lastModifiedBy>Carolline</cp:lastModifiedBy>
  <dcterms:modified xsi:type="dcterms:W3CDTF">2011-02-15T12:13:10Z</dcterms:modified>
  <cp:revision>11</cp:revision>
  <dc:subject/>
  <dc:title>PIRAMIDA HEXAGONALĂ REGULATĂ</dc:title>
</cp:coreProperties>
</file>